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963525" cy="864076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2491-8406-461C-90B9-6CDABEB4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57C3-67C2-41D4-B346-633C00D4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43E7-1D11-452B-B05B-66033342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374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62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18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374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39A2-B8B2-4A41-91EF-50D1E1B8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CEE2-69BE-47B1-AB56-DAD1E989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4138-9BE4-43CD-8564-594E610F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A2D6-3B90-4452-A539-D1077411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8D77-D2B2-45FD-998E-22A3AA04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6200" y="347400"/>
            <a:ext cx="11669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A055-3BC6-4F86-A3FF-BDC9B452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8998-8AB9-45C0-B75E-A29951A5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12BD-2BE1-4186-98E1-F4009BBD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40B4-90AC-4FA7-A6EA-56C33968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marL="461880" indent="-4618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385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06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60720" indent="-30960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584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0"/>
            <a:ext cx="4106880" cy="5983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8980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fld id="{EC2A7D84-BFFC-45B1-B37E-E18D48EBD13C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e2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11034720" cy="2438640"/>
          </a:xfrm>
          <a:prstGeom prst="rect">
            <a:avLst/>
          </a:prstGeom>
          <a:solidFill>
            <a:srgbClr val="6d1543"/>
          </a:solidFill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7200" spc="-1" strike="noStrike">
                <a:solidFill>
                  <a:srgbClr val="fbfadd"/>
                </a:solidFill>
                <a:latin typeface="Arial"/>
              </a:rPr>
              <a:t>Kulturní zájmy a potřeby</a:t>
            </a:r>
            <a:br>
              <a:rPr sz="7200"/>
            </a:br>
            <a:r>
              <a:rPr b="1" lang="en-US" sz="4000" spc="-1" strike="noStrike">
                <a:solidFill>
                  <a:srgbClr val="fbfadd"/>
                </a:solidFill>
                <a:latin typeface="Arial"/>
              </a:rPr>
              <a:t>obyvatel hlavního města Pr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99840" y="7162560"/>
            <a:ext cx="9753480" cy="1066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Prezentace pro setkání představitelů pražské kulturní obce dne 14. 1.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M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124080" cy="32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6C58-E23C-4D5E-AE83-9F4FDC67BFE9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111492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ference od známých jsou základ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ternetu patří nejenom budoucnost, ale i součas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600200"/>
            <a:ext cx="11201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odkud čerpáte informace o možnostech kulturního vyžití v Praz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5440" y="2328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85920" y="2016000"/>
          <a:ext cx="9937800" cy="642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2016000"/>
                    <a:ext cx="993780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CA83-7AD2-4569-BADA-D0EABC593337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11201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ěkteré z pražských kulturních projektů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se staly pojmy, které zná větš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00200"/>
            <a:ext cx="11887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Vám budu postupně číst různé konkrétní akce či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 prosím řekněte, zda je znát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2120" y="2797200"/>
          <a:ext cx="640728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797200"/>
                    <a:ext cx="64072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18160" y="2684520"/>
          <a:ext cx="6283440" cy="545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8160" y="2684520"/>
                    <a:ext cx="628344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3F4E-76F4-4107-8FFA-601EA7FE88A3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Vnímání nabídky v oblasti kult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5F7-F801-48DE-A11B-B555B125DD3D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1151424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abídka kultury v Praze je pestrá. </a:t>
            </a: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Významný nedostatek z hlediska rozmanitosti neexis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3302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je nabídka kulturních pořadů a akcí v  Praze dostatečně rozmanitá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705720" y="1905120"/>
            <a:ext cx="5867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mi laskavě řekněte, zda je ještě něco jiného, co Vy osobně v nabídce kulturních akcí, pořadů či v oblasti kultury a umění v Praze postrád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44D7-CDD0-4510-999D-8ED92F67A163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hodnotí Pražané rozsah nabídky v kultuř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019920"/>
            <a:ext cx="6477120" cy="21333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klubových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ídka odborných kni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838080"/>
            <a:ext cx="57150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Hodnotí 60 - 70 %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057400"/>
            <a:ext cx="6477120" cy="3657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távka spíše vyšší než nabíd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představení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né kulturně vzdělávací pořady pro dě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alternativních divadelních scén  a klu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pořady, autorská čtení, pá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5257800" cy="28195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klasických diva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eální expoz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jní či jiné výstavy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5791320"/>
            <a:ext cx="5257800" cy="2133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spíše vyšší než poptáv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multikinech,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4960" y="1295280"/>
            <a:ext cx="5409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odnotí 85 - 95 % obyvate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F6B6-DC1E-45F2-A11E-B01E6083EB56}" type="slidenum">
              <a:t>14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5046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posuzování rozsahu nabídky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kulturních pořadů v hlavním městě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905120"/>
            <a:ext cx="11430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u Vám nyní číst nabídku jednotlivých druhů kulturních pořadů, akcí a 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, prosím, řekněte, zda máte poc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některých je málo,  je jich přiměřeně a nebo je jich až moc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9640" y="3111480"/>
          <a:ext cx="112554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E720-FA57-4501-93A9-7F7BEEB87C69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Kulturní zájmy a návštěv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65E8-9199-4167-A698-7C982A98C7B0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189512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Hierarchie zájmu o kulturní oblas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76520" y="2590920"/>
          <a:ext cx="10210680" cy="56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90920"/>
                    <a:ext cx="1021068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prosím, jaký je Váš vztah k jednotlivým oblastem v kultuř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moc se o jednotlivé kulturní akce v těchto oblastech zajím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C25-E54B-4EBD-8260-AA3481521892}" type="slidenum">
              <a:t>17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Zájem generací o jednotlivé druhy umění je různ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0120" y="24382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0" y="2438280"/>
          <a:ext cx="8991720" cy="581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438280"/>
                    <a:ext cx="899172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jem o jednotlivé kulturní oblasti podle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čet odpovědí „Velmi se zajímám“ + „Poměrně se zajímám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271A-1570-47FA-BCBA-90199D3FB9D1}" type="slidenum">
              <a:t>18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často vyrazí Pražané za kulturou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200400"/>
            <a:ext cx="11049120" cy="20574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ová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ubová kina, filmové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ní alternativní divadelní scény,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klasické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410080"/>
            <a:ext cx="11049120" cy="281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né knihov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kluby, pásma, več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a jiné kulturně vzdělávací programy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, 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64280" y="3276720"/>
            <a:ext cx="7416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371600"/>
            <a:ext cx="11049120" cy="1676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kina, k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řejné knihovny, muz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asická divadel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e či výstavy výtvarného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50520" y="170172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64280" y="5940360"/>
            <a:ext cx="910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1447920"/>
            <a:ext cx="10670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30680" y="6257880"/>
            <a:ext cx="342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ůbec nik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50520" y="368316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 – 45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CE3A-2A94-429B-B052-6E232256DC86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Základní informace o výzkumu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16D7-E0AF-40C5-9599-FA47F07B829F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1174248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návštěvnosti kulturních pořadů a zařízení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mezi obyvateli Prah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04156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yslete se, prosím, nad letošním rokem a řekněte mi, jak často obvy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livé kulturní akce či zařízení navštěvujete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09640" y="3111480"/>
          <a:ext cx="112554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33AA-BAB1-4B49-BBB1-458EDD5708A5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Bariéry účasti na kulturním život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AD66-15EE-4C05-840F-C1F350CDBBE0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 každý může za kulturou, jak by chtěl.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idé tvrdí, že „chybí“ volný čas nebo peníze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92960" y="3098880"/>
          <a:ext cx="6143400" cy="44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92960" y="3098880"/>
                    <a:ext cx="6143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324480" y="1981080"/>
            <a:ext cx="6553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u Vás převládá pocit, že nemůžete navštěvovat různé kulturní akce a zařízení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byste chtěl(a), co je podle V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vykle hlavní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80880" y="3014640"/>
            <a:ext cx="5639040" cy="4678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8600" y="2057400"/>
            <a:ext cx="6095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to vezmeme všechno dohromady, můžete se návštěvám různých kulturních akcí a zařízení věnovat tak, jak byste chtěl(a):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6C2A-26DA-448E-B55F-4C45E5B8A4D4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ahá připadají lidem kina, divadla, koncerty.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o většinu lidí není problém místo konán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82640" y="3048120"/>
          <a:ext cx="10302840" cy="51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82640" y="3048120"/>
                    <a:ext cx="1030284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3520" y="1905120"/>
            <a:ext cx="12191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dosažitelnost z místa, kde bydlí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07D5-1D2D-46C4-9DB1-8D2722EE3C39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jstarší generace má problémy: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ostupné jsou pro většinu z nich jen knihov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1828800"/>
            <a:ext cx="11201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oučet odpovědí „Zcela přijatelné + „Spíše přijatelné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6000" y="2262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984320" y="2971800"/>
          <a:ext cx="944568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4320" y="2971800"/>
                    <a:ext cx="944568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A6F7-67C6-4F97-A061-5F3376D8D465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73080" y="320040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ctr">
            <a:noAutofit/>
          </a:bodyPr>
          <a:p>
            <a:pPr algn="ctr"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hrnutí a závě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2680-6625-4D71-B0EC-2DBB4BF58732}" type="slidenum">
              <a:t>25</a:t>
            </a:fld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4290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ažané řadí Prahu mezi nejvýznamnější evropská kulturní centr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byvatelé města oceňují možnosti v oblasti kultury jako jednu z největší předností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D9FF-3D53-4344-A5C6-0CFBE869B56C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4290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formace o kulturní nabídce v Praze nescházej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59436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ulturní život v hlavním městě nemá zásadní omezení na straně nabídk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A410-1DBC-48D0-A1D6-61D0230532A4}" type="slidenum">
              <a:t>27</a:t>
            </a:fld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33526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z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y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dojde v horizontu 15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let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 oblasti kulturních zájmů a potřeb k významným změná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58672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738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ojde k p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k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livu demografického stárnutí a zlepšující se úrov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celkové vz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lanost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5419-8559-47E8-8E96-3A646E166B3F}" type="slidenum">
              <a:t>28</a:t>
            </a:fld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2767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962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Mírné n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dostatk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 ve struktuře nabídky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se sice výraz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neprohloubí, avšak ani neustoupí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57913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ozvírání nůžek mezi lidmi s větším a menším zájmem o kulturu může způsobit nepříznivý ekonomický vývoj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F42F-EA71-4A5E-B3A7-4DCF7E9E8E11}" type="slidenum">
              <a:t>29</a:t>
            </a:fld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11950560" cy="71071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marL="1143000" indent="0">
              <a:spcAft>
                <a:spcPts val="1400"/>
              </a:spcAft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antitativní  reprezentativních š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ílová skupina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yvatelé Prahy starší 15 let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a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ótní vý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 podle kritérií pohlaví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u, vz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ání a 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sk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ka dotazování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ované osobní rozhovory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dené školenými tazateli STEM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rmín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11. – 2.12. 2004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ýsledný soubor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50 respond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D500-F245-4358-9D25-49050860E7E0}" type="slidenum">
              <a:t>3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50000">
              <a:srgbClr val="8c043b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5638680"/>
            <a:ext cx="10591560" cy="243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Přejeme mnoho úspěchů </a:t>
            </a:r>
            <a:br>
              <a:rPr sz="4800"/>
            </a:b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a děkujeme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STEM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5971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69D5-8B99-40A0-A000-B2F376C09362}" type="slidenum">
              <a:t>30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žané a kul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38360" y="2666880"/>
            <a:ext cx="1055376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txBody>
          <a:bodyPr lIns="123480" rIns="123480" tIns="61560" bIns="61560" anchor="t">
            <a:normAutofit/>
          </a:bodyPr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é je místo kultury v životě Pražanů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sou Pražané v oblasti kultury informova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nabídka kultury dostatečně rozmanit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Pražany v kultuře zajímá a kam chod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mění se v nejbližších letech potřeby veřejnosti   v oblasti kultu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6AA-A1BA-4BF9-9184-294B5C12A65F}" type="slidenum">
              <a:t>4</a:t>
            </a:fld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ísto kultury v životě Pražan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F282-0B07-40D3-918A-9C9A2E8B5226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14411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Kultura není v životním stylu Pražanů prioritou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lédněte si, prosím, seznam životních stylů a vyberte postupně tř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eré jsou Vám nejbližší. Stanovte pořad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9840" y="23144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2438280"/>
          <a:ext cx="8610480" cy="59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438280"/>
                    <a:ext cx="86104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948E-4043-4559-9268-A394F03E9E34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ěsnější vazbu ke kultuře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á jen poměrně malý podíl Praža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905120"/>
            <a:ext cx="6019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se srovnáte s jinými lidmi Vašeho věku, jak často ve srovnání s nimi navštěvujete různé kulturní akce a zařízení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2600" y="278136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984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3200400"/>
          <a:ext cx="502920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5029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2209680"/>
            <a:ext cx="5410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podílel(a) jste se v posledním roce na nějaké kulturní akci, projektu: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00800" y="312408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312408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F276-BBC6-45DE-9900-9465AE29ADEF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Informovanost o kultuř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297B-D482-4DAB-932F-7FE14A1DAFFA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110491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Informací o kulturní nabídce je dost.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ětšina Pražanů si myslí, že má dostatečný přeh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240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dle Vás snadné získat dostatek informací o kulturní nabídce v hlavním městě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54320"/>
            <a:ext cx="586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máte dostatečný přeh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nabídce kultury v Praz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BFDC-A52F-4027-9754-F85E5F7CBC33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22:19Z</dcterms:created>
  <dc:creator>Sýkorová</dc:creator>
  <dc:description/>
  <dc:language>en-US</dc:language>
  <cp:lastModifiedBy>sykorova</cp:lastModifiedBy>
  <dcterms:modified xsi:type="dcterms:W3CDTF">2005-01-12T16:55:05Z</dcterms:modified>
  <cp:revision>360</cp:revision>
  <dc:subject/>
  <dc:title>Hlavní město Praha - portrét roku 2004</dc:title>
</cp:coreProperties>
</file>